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8760" y="912960"/>
            <a:ext cx="485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Industrial Revolution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700–19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97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ustrial Revolution begins in Britain, spreads to other countries, and has a strong impact on economics, politics, and societ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1200" y="182736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dustrialization Changes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71960" y="941400"/>
            <a:ext cx="3204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Industrializat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3360" y="2403360"/>
            <a:ext cx="5864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tory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ies pay more than farms, spur demand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expensive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3360" y="3352680"/>
            <a:ext cx="56293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ustrial Cities 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Urba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ity-building and movem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to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wing population provides work force,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factory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industrial cities: London, Birmingha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hester, Liver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6560" y="134460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</a:rPr>
              <a:t>CASE STUD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82360" y="1690560"/>
            <a:ext cx="38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dustrialization Changes Lif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3360" y="2174760"/>
            <a:ext cx="58006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ckness widespread; epidemics, like cholera, swee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ban sl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 span in one large city is only 17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lthy merchants, factory owners live in luxuri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urban ho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idly growing cities lack sanitary codes, buil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ties also without adequate housing, educ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ice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82360" y="1690560"/>
            <a:ext cx="38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dustrialization Changes Lif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working day 14 hours for 6 days a wee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ar 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ty, poorly lit factories injure wo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coal miners killed by coal d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3000" y="159876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lass Tensions G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ddl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iddle 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killed workers, merchants, r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rmers,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erging middle class looked down on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owners, aristocr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class has comfortable standard of l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3360" y="39765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king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ers’ lives not improved; some labor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aced by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ddites, other groups destroy machinery that 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 out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employment a serious problem; unemploy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kers ri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69400" y="159876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ositive Effects of the Industrial R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mediat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jobs, enriches nation, encour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ical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ucation expands, clothing cheaper, die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ing im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ers eventually win shorter hours, bet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ges and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73360" y="425772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d living and working conditions still evi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s use increased tax revenues for urb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71920" y="159876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Mills of Manche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chester and the Industrial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hester has labor, water power, nearby 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Liver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live and work in unhealthy, even dangero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owners make profits by risking the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 money on fa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ntually, working class sees its standard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rise 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1280" y="1690560"/>
            <a:ext cx="33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Mills of Manche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73360" y="2174760"/>
            <a:ext cx="5800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ldren in Manchester 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ldren as young as 6 work in factories; many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19 Factory Act restricts working age,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y pollution fouls air, poisons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netheless, Manchester produces consumer go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creates weal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370160" y="2486160"/>
            <a:ext cx="7137720" cy="1057680"/>
            <a:chOff x="1370160" y="2486160"/>
            <a:chExt cx="7137720" cy="1057680"/>
          </a:xfrm>
        </p:grpSpPr>
        <p:sp>
          <p:nvSpPr>
            <p:cNvPr id="197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70160" y="2867040"/>
              <a:ext cx="713772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ndustrialization Spread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370160" y="361944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ustrialization that begins in Great Britain spreads to other parts of the wor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70840" y="18273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dustrial Development in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73360" y="2403360"/>
            <a:ext cx="57880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ustrialization in the 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has natural and labor resources need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uel Slater, English textile worker, builds text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l in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ell, Massachusetts a mechanized textil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8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 towns spring up around facto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ross the 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ng single women flock to factory towns, work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ile m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othing, shoemaking industries soon mechan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71600" y="885960"/>
            <a:ext cx="481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Industrialization Sprea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ter Expansion of U.S.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ialization picks up during post-Civil 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b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es like Chicago expand rapidly due to lo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railroad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companies merge to form larger, powerfu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85600" y="1690560"/>
            <a:ext cx="51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dustrial Development in the United Sta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73360" y="42433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se of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t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imited ownership rights for company, s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aise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rp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ompany owned by stockhold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 profits not de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rge corporations attempt to control as mu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as they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760" y="912960"/>
            <a:ext cx="485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Industrial Revolution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700–19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5880" y="2502000"/>
            <a:ext cx="41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eginnings of Industria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7680" y="3078000"/>
            <a:ext cx="361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6e19"/>
                </a:solidFill>
                <a:latin typeface="Arial"/>
                <a:ea typeface="Times New Roman"/>
              </a:rPr>
              <a:t>CASE STUD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dustria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5880" y="359100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alization Sprea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4440" y="4129200"/>
            <a:ext cx="36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ing the Industrial Wor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1560" y="159876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ntinental Europe Industrializ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oubles in Continental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 and Napoleonic wars disrupted ear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th-century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3360" y="315288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ginnings in 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gium has iron ore, coal, water transpor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workers smuggle in machine plans, st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nies (17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773360" y="441000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many Industrial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, economic barriers; but industry, railro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m by mid-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ansion Elsewhere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hemia develops spinning; Northern Ita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zes silk text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alization in France more measure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 remains 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781280" y="1593720"/>
            <a:ext cx="42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ntinental Europe Industrializ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9400" y="159876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Impact of Industri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e of Global Ine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lth gap widens; non-industrialized count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ll further beh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nations, U.S., Japan exploit colon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erialism spreads due to need for ra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erials, mark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3360" y="422928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 of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 and U.S. gain economic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rican and Asian economies lag, bas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iculture, craf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se of middle class strengthens democracy, cal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social 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371600" y="2486160"/>
            <a:ext cx="4689000" cy="1640520"/>
            <a:chOff x="1371600" y="2486160"/>
            <a:chExt cx="4689000" cy="1640520"/>
          </a:xfrm>
        </p:grpSpPr>
        <p:sp>
          <p:nvSpPr>
            <p:cNvPr id="25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1960" y="2867040"/>
              <a:ext cx="46886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Reforming the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ndustrial World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70160" y="414828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ustrial Revolution leads to economic, social, and political re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73760" y="941400"/>
            <a:ext cx="58698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Reforming the Industrial Worl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3360" y="2403360"/>
            <a:ext cx="5788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issez-faire Eco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aissez fa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conomic policy of not interfe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busine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tes with Enlightenment econom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osop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dam Sm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defender of free markets, autho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ealth of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ves economic liberty guarantees econom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 natural laws—self-interest, competi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and dem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69400" y="182736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Philosophers of Industri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conomists of Capit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mas Malthus, David Ricardo boost laissez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ire capit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pit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ystem of privately ow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es seeking pro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thus thinks populations grow faster than fo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s, epidemics kill off extra people or mis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overty res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cardo envisions a permanent, poor und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cheap la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783800" y="1690560"/>
            <a:ext cx="45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Philosophers of Industrial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tilitari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remy Bentham’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uti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judge th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their usefu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Stuart Mill favors regulation to help work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read w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2640" y="159372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ise of Socia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774800" y="3703680"/>
            <a:ext cx="5654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topian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bert Owen improves workers’ conditions, r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ap 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24, Owen founds utopian community,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mony, Ind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73360" y="52293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oci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actors of production owned b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ed for the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ists think government control can end povert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ng e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xism’s Proph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Karl Mar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erman journalist proposes a rad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alism, Marx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drich Engels—German whose father own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hester textile m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3360" y="159372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arxism: Radical Socia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774800" y="3679920"/>
            <a:ext cx="5654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unist Manif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x and Engels believe society is divided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ring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ism helps “haves,” the employers known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bourgeoi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rts “have-nots,” the workers known a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l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x, Engels predict the workers will overthrow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w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According to Ma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x believes that capitalism will event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oy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equality would cause workers to revolt, sei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ies and m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ociety where people own, sh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s of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x’s ideas later take root in Russia, Chin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me has shown that society not controll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 forces a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781280" y="1690560"/>
            <a:ext cx="36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arxism: Radical Social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74800" y="2174760"/>
            <a:ext cx="54658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Un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ssociations formed by laborers to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ons negotiate for better pay, condition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times the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tri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all a work stoppage—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sure ow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ed workers are first to form un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ment in Britain, U.S. must fight for r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 u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on goals were higher wages, shorter hou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cond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73360" y="159372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abor Unions and Reform La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486160"/>
            <a:ext cx="5165640" cy="1640520"/>
            <a:chOff x="1371600" y="2486160"/>
            <a:chExt cx="5165640" cy="164052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1600" y="2867040"/>
              <a:ext cx="51656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Beginnings of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ndustrialization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5920" y="4094280"/>
            <a:ext cx="59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ustrial Revolution starts in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on spreads to other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74800" y="2174760"/>
            <a:ext cx="56181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orm L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, U.S. laws passed to stop worst abus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42 Mines Act in Britain stops women, childr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 under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47, workday for women, children limit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 hours in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ends child labor, sets maximum hours in 19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2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782000" y="1690560"/>
            <a:ext cx="405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Labor Unions and Reform La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74800" y="2174760"/>
            <a:ext cx="5894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bolition of Sla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33, reformers help end slavery in British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avery ends in U.S. in 1865; ends by 1888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 of Ame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75160" y="1593720"/>
            <a:ext cx="48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form Movement Spr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3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774800" y="3403440"/>
            <a:ext cx="5654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ght for Women’s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men pursue economic and social rights as ear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18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uncil for Women founded 188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wide 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73360" y="494352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orms Spread to Many Areas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ormers establish free public schools in Europ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18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schools common in U.S. by 1850s; pri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 also s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69400" y="182736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dustrial Revolution Begins in Brit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4480" y="941400"/>
            <a:ext cx="6633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Beginnings of Industrializat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667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Ways of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ndustr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reatly increases outpu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hine-made go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 begins in England in the middle 1700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3360" y="36608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gricultural Revolution Paves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nclos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arge farm fields enclosed by f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hedg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lthy landowners buy, enclose land once ow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village fa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closures allow experimentation with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al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tating Cr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rop ro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witching crops each year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oid depleting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vestock breeders allow only the best to bre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food 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3440" y="169056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dustrialization Begins in Brit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73360" y="3708360"/>
            <a:ext cx="58132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y the Industrial Revolution Began in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ndustri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ove to machine produc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 has natural resources—coal, iron, riv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b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anding economy in Britain encour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has all neede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factors of p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lan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bor,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9760" y="159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ventions Spur Industri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773360" y="2174760"/>
            <a:ext cx="5646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s in the Textil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vers work faster with flying shuttle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jen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ter frame uses water power to drive spi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loom, spinning mule speed up produc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act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buildings that contain machinery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tton gin boosts American cotton productio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et British dem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2640" y="159876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mprovements in Transpor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773360" y="21747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t’s Steam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for cheap, convenient power sp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team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mes Watt improves steam engine, financ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Bou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ulton a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ntrepren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organizes, manag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s business r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3360" y="42130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er 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bert Fulton builds first steamboat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rmon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and’s water transport improved by system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3360" y="570384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d 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roads are improved; companies operate th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 toll ro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4080" y="159876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ailway Age Beg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eam-Driven Locomo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04, Richard Trevithick builds first steam-driv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omo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25, George Stephenson builds world’s fir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ilroad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360" y="36608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iverpool-Manchester Rail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epreneurs build railroad from Liverpool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henson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knowledged as b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omotive (18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73360" y="520848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ilroads Revolutionize Life in Bri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ilroads spur industrial growth, create jo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eaper transportation boosts many industri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move to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0160" y="3940200"/>
            <a:ext cx="67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ctory system changes the way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 and work, introducing a variety of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70160" y="2397240"/>
            <a:ext cx="6800760" cy="1519920"/>
            <a:chOff x="1370160" y="2397240"/>
            <a:chExt cx="6800760" cy="1519920"/>
          </a:xfrm>
        </p:grpSpPr>
        <p:sp>
          <p:nvSpPr>
            <p:cNvPr id="122" name=""/>
            <p:cNvSpPr/>
            <p:nvPr/>
          </p:nvSpPr>
          <p:spPr>
            <a:xfrm>
              <a:off x="1370160" y="239724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0160" y="2787480"/>
              <a:ext cx="680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ndustrialization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00040" y="345744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b6e19"/>
                  </a:solidFill>
                  <a:latin typeface="Arial"/>
                  <a:ea typeface="Times New Roman"/>
                </a:rPr>
                <a:t>CASE STUDY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nche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3:32:37Z</dcterms:modified>
  <cp:revision>860</cp:revision>
  <dc:subject/>
  <dc:title>No Slide Title</dc:title>
</cp:coreProperties>
</file>